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120-4DF2-45C1-9F2C-B2B40F4D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791-7B76-477F-8195-99463E0B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A53-9BD6-4B31-9E53-1AD45AE9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2D1-D8D7-4F72-A977-A290D482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44B3-F131-41D8-9AC1-C632ABFE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6E41-EDA8-4E9E-9CE3-75F6195C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E4DB-D7C5-4A2B-AA07-4571FFE4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149A-9AA4-4A95-8DF8-652C178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0609-D0CF-4A18-954C-7AC221FB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EF13-5167-4A59-A6FB-E84CA07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A22B-A3DD-4BA0-A9B8-6CB9F919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92A-F648-41F5-A92D-D7A7778F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B8DF-CAB0-4FB5-8C56-1670EA6D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4733-3F4B-404B-9FA4-CD550AF2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D074-9825-499E-B7F3-2EC6DA3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835B-87FB-47A6-ACE8-9F296115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7144-8270-4E6F-89D8-6557916D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C97-8CBF-471D-BF4D-072BCB0B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583-EFDA-47A7-BE30-87C341F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2B1-F942-482D-8B44-4CD4EB8C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283-5991-4B13-B1F4-5D82718A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3C4-7DAF-4D48-A542-CB1850A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746-5D17-4F93-B49B-15701A5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416-E443-46AF-BDB0-CD166EDA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623C-5A88-4F9F-8A53-D2B731D51A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77FE-836D-4440-9549-B691FB9D22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7240" y="1600200"/>
            <a:ext cx="5334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GESTION DE RECURSOS HUMAN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fesor: Cristian Binime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artamento de Ingeniería Indust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914640" y="2955960"/>
            <a:ext cx="1314360" cy="799920"/>
            <a:chOff x="3914640" y="2955960"/>
            <a:chExt cx="1314360" cy="799920"/>
          </a:xfrm>
        </p:grpSpPr>
        <p:sp>
          <p:nvSpPr>
            <p:cNvPr id="165" name=""/>
            <p:cNvSpPr/>
            <p:nvPr/>
          </p:nvSpPr>
          <p:spPr>
            <a:xfrm>
              <a:off x="3914640" y="2955960"/>
              <a:ext cx="13143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955960"/>
              <a:ext cx="10065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43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1300" spc="-1" strike="noStrike">
                  <a:solidFill>
                    <a:srgbClr val="ffffff"/>
                  </a:solidFill>
                  <a:latin typeface="Verdana"/>
                </a:rPr>
                <a:t>           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04920" y="1143000"/>
            <a:ext cx="8533800" cy="5333760"/>
            <a:chOff x="304920" y="1143000"/>
            <a:chExt cx="8533800" cy="5333760"/>
          </a:xfrm>
        </p:grpSpPr>
        <p:sp>
          <p:nvSpPr>
            <p:cNvPr id="185" name=""/>
            <p:cNvSpPr/>
            <p:nvPr/>
          </p:nvSpPr>
          <p:spPr>
            <a:xfrm>
              <a:off x="779112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20" y="1143000"/>
              <a:ext cx="11235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28480" y="1143000"/>
              <a:ext cx="104760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1143000"/>
              <a:ext cx="112356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480" y="1143000"/>
              <a:ext cx="104760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97000" y="1143000"/>
              <a:ext cx="194544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ac.Interperson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000" y="1143000"/>
              <a:ext cx="1945440" cy="738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Procesos psicológicos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y psicosoci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268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roces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76440" y="1143000"/>
              <a:ext cx="108252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76440" y="1143000"/>
              <a:ext cx="232020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Diseñ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76440" y="1470600"/>
              <a:ext cx="115848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5280" y="1470600"/>
              <a:ext cx="11613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structur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59320" y="1881360"/>
              <a:ext cx="189720" cy="3692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2800" y="1143000"/>
              <a:ext cx="1047960" cy="4431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42800" y="1143000"/>
              <a:ext cx="2095920" cy="3276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42800" y="1470600"/>
              <a:ext cx="10497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2560" y="1470600"/>
              <a:ext cx="1046160" cy="4104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176560" y="5820480"/>
              <a:ext cx="2021400" cy="656280"/>
            </a:xfrm>
            <a:custGeom>
              <a:avLst/>
              <a:gdLst>
                <a:gd name="textAreaLeft" fmla="*/ 353520 w 2021400"/>
                <a:gd name="textAreaRight" fmla="*/ 1465560 w 202140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2224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8040" y="5820480"/>
              <a:ext cx="2170080" cy="656280"/>
            </a:xfrm>
            <a:custGeom>
              <a:avLst/>
              <a:gdLst>
                <a:gd name="textAreaLeft" fmla="*/ 379800 w 2170080"/>
                <a:gd name="textAreaRight" fmla="*/ 1573560 w 217008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20" y="5820480"/>
              <a:ext cx="1871640" cy="656280"/>
            </a:xfrm>
            <a:custGeom>
              <a:avLst/>
              <a:gdLst>
                <a:gd name="textAreaLeft" fmla="*/ 327600 w 1871640"/>
                <a:gd name="textAreaRight" fmla="*/ 1357200 w 1871640"/>
                <a:gd name="textAreaTop" fmla="*/ 87840 h 656280"/>
                <a:gd name="textAreaBottom" fmla="*/ 568440 h 65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611280" y="18900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A.S.H. (S. QUIJANO/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CASO CANAL 1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uáles son los estilos de gestión de RRHH que se identifican en el caso? ¿Cuáles son los elementos distintivos entre ell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Qué elementos del caso responden a una nueva concepción estratégica de RRHH?, ¿Por qué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¿Cómo se entienden los “focos de resistencia interna” y de qué manera pueden ser gestionados desde RRH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Unidad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a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 Recursos Hum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 del curso los alumnos deben comprender la Gestión de Recursos Humanos como una actividad de agregación de valor a las empresas y organizaciones, disponiendo de las herramientas para diseñar, planificar y ejecutar políticas de gestión de personas y organiz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Program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ecíficos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Conocer los principales enfoques de gestión de recursos</a:t>
            </a:r>
            <a:r>
              <a:rPr b="1" lang="es-ES_tradnl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Diferenciar funciones y procesos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agregación de valor de la gestión de Recursos Human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ar el entorno de negocios y el rol central de la gestión de personas en la competitividad de la empresa del siglo XX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0480" indent="0" algn="just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torno cambiante y la gestión de Recursos Hu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cambios en el empleo y el desarrollo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RHH del “mando y control” al desarrollo de la confia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seños Organizacionales y Gestión de Recursos Human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nfoque sistémico y la Gestión de Recursos Humano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organización como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provis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irec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evaluación de person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retribución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bsistema de desarrollo de perso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Gestión por competencias. Un nuevo enfoque para la Gestión de RRHH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competenci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plic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plica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ón de Recursos Humanos y la agregación de Va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nuevos roles de la Gestión de RRHH (estrategia/operación y procesos/perso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stores de RRHH reinventarse o mori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l enfoque de Gestión de Personas como agregación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s desafíos de la agregación de va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Metod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La metodología del curso está centrada en el rol central del alumno como sujeto del aprendizaje. Mediante un conjunto de actividades y ejercicios los alumnos irán conociendo los contenidos del curso y aportarán desde sus experiencias y lecturas a la comprensión del rol de la Gestión de Recursos Humanos en la empresa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l finalizar el curso los alumnos deberán entregar un ensayo (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áx.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0 páginas de extensión) que responda creativamente a la pregunta ¿Cómo agregar valor a las empresas desde la Gestión de Recursos Humanos?. Para lo anterior los alumnos deberán leer la bibliografía obligatoria del curso y los contenidos de cl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r fecha de entrega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8:03:45Z</dcterms:created>
  <dc:creator>BertSR</dc:creator>
  <dc:description/>
  <dc:language>en-US</dc:language>
  <cp:lastModifiedBy>UNIVERSIDAD DE CHILE</cp:lastModifiedBy>
  <dcterms:modified xsi:type="dcterms:W3CDTF">2004-03-08T20:53:59Z</dcterms:modified>
  <cp:revision>40</cp:revision>
  <dc:subject/>
  <dc:title>Slide 1</dc:title>
</cp:coreProperties>
</file>